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0D00-10D5-4C49-B2FD-A0133C81C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B32D-ECDF-40DF-8CAF-45E02D77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49C87-3A90-4030-AD7E-A5524A76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F7293-521C-4224-AEDB-20F51FE8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C932E-5886-4AB2-B9BB-673F9718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76E26-5883-4295-95B5-447C1B1D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3DFFF-FDF7-4D9D-A3F5-FAA2A472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FFDD9-B740-4364-9B91-E11BDB01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47F16-BBBC-4324-92DC-A24792D1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8CB4C-7914-428D-A085-D938EE0C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AED76-D578-4E3E-8798-5BC5568C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5BD6B7-FA96-4FB4-BF80-63298D810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384A-D202-4BE2-A7F5-7DC366404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4AF6B5-33CE-4489-930C-1F6A2A16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0E4DD2-6BC8-48D2-ACE7-83D82A78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8C2201-9E4D-4EEA-A492-85B73FB9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BFDDB1-F5DE-4533-85A6-1D548105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205F7D-E114-402C-8E41-A61E060B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B794FB-31C3-40A1-8C9D-00DCA35F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CB5D0B-2291-4570-8C4B-6156C3E6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79EA60-CE34-4E76-A6E3-D81A6E7E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66595E-4D17-45B8-961F-E83DE05D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1E84EA-2069-4C78-AE60-825A5D13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ED32-6C1E-40E3-A8F6-A1DC578C8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2AD246-44FE-48B5-8A71-620B91BD6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78BE3-EF20-46B3-B7C4-0C3938AB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D864F-4B32-4941-88E5-6DCF467B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A1D2B-07F0-4228-8D21-8D765B9C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571CD-8392-4578-87B1-984445BE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31FE0-3AD6-468A-8020-D3FA04D6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F62E3-0CFE-49BB-BEFB-6BB1176D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3F065-976B-40B7-8442-C3C8BFA7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AE3D3-2AAF-4948-AD38-EE208885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7556A-F359-4400-85B9-E97D79D0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5DE8-D6DC-4DFB-833C-71293AC27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77352-6AC1-4196-AC53-0EF952B7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CBCE3-9BF6-410E-BF32-543D398B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D2C5C-19AB-4871-8A58-C20B4A49C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28685B-2BF8-4182-B979-7FB00A76A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1DD76-8FAF-4BF9-95EE-CC188D99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322D1F-577A-4CD8-B5DF-D2294B0A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D6823-DA4B-475A-BD57-78EB8423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5D7FA-EF9F-4C91-87A9-A2FC1E6F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01376-3273-4FD2-A45C-2E6AC36D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6B34D8-1A97-41C3-9170-7624E3D9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2F75-17F0-4640-865C-5326D3B1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140A18-DEC0-4C5B-AEF9-9DA7AB7B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7DAAB-39E9-4340-96FE-92EEDB70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DC4BF-99D0-44DF-A1B6-541B2DB1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7E630-CB20-4AF5-9BF8-988FC9E3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151617-40FA-4DFF-A195-550A3F252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7A2C-5CDB-452A-B51F-7132FC0C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747B-99A1-411A-9B74-D86BCCA0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37FC-0429-4CCC-9D9E-5E060EFC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8F66-05A0-4A94-8EC4-52B612BD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28CC-F6B6-444A-9796-C9A3D39C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C1E3-472E-4B53-B5AC-5A2FC25B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1B8D-8D94-43E1-AA9F-6563017E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0BD2-6319-449E-BB71-DACA831B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79F3-2AA1-457C-9C76-9138BCF7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38AE-B584-464C-BBF5-CC0415FAA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047D-1398-41A7-8263-76DBE7CE7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AB8F2-4894-49AA-9586-ABC938DB3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8233D-B702-4801-9493-23E07774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C3557-C184-4B56-B1A7-9739950E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744DF-9010-4722-B46E-A1C63374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52D6E-9ADE-45F9-8D99-66EE6C61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7893-C413-468C-8E9F-8DD0EB24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302BB-7630-4186-B3E0-FF439566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8E5BA-33F0-497C-8016-672970A2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1E09C-D024-4761-B814-E5F606A3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BDAFC-5DAB-40EB-AFE4-00473DF7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6376B-6331-4688-93D5-929F81AF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327D1-B641-47DD-AD08-0FC4C4BB6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DC8C8-1BB4-4E67-B7F1-E01C3D34B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143FB-7BAF-478E-8B03-BC108105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35299-0E13-44DF-9977-4D4F33B2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55954-5CED-40FA-B631-98C9F84F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CA44-2718-4984-9C6E-C26A5747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16181-645C-4C7A-9F95-B45FC086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46BFB-2EE0-4788-B692-15A82856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617A5-46BD-4376-878F-C64BB682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58949-D08B-4B85-BB9B-2929EF41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4AA06-AC46-4C3F-BCA9-0A6AECE5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849FB-A748-49F8-9F7E-F9C83235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0011A-4CD8-494B-8CC1-5836B8A1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38FA1-C25D-4200-B959-BF64B4CA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F3BCE-E423-4E3D-A840-4475D058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796D9B-4D88-4AF4-ACBC-08A0B3EF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90DC-D9EA-42DA-9B03-54A596ED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D44213-E763-4CFE-A7BB-26604D2A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9A75B6-2051-4C40-87AD-F2348199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9591F4-3B8B-4E61-A49B-67C15996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21691A-A0F1-4D52-AFA8-2B53899C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07F387-9747-4238-8261-34C09CB6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E8E325-B48E-4D37-8EC5-B1834D10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9C1AD5-C529-4202-9EC2-E3342056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EDEF05-6E0E-4F98-BF51-C6F33E28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FD7786-04B0-483D-B9EA-3249E31F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9843FB-15FF-4423-A7C1-33097F742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B024-4C7E-422E-8F0C-BC4A3E8D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432846-E03F-4CCE-B59B-6F654603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8971C-DB17-49EA-A733-CFDD58EE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2EEE4-4AFA-48E4-AC09-4A630464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78AA6-93E9-4605-BE85-87D3F516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E478A-1D70-4FA1-B7F6-12786D9E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B1472-66D0-43C8-8FD1-9C7BB7D2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0E647-3B69-4F56-8756-40FBB2A1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4B6F4-022E-4269-8120-54493970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5C62A-3B8B-4FCD-8162-A6FC22B2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C0C43-3988-40E6-B89C-05E3DB23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84E8-F125-4CC7-BE88-FB07F45E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C0BDD-B3AF-4969-90D1-3160409B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F3F6E-05AE-4A30-89EE-B95C353C4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C5184-EE93-449D-A55C-A10FBC9E5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0CDAC-8E57-4EDC-A4DC-5B9ECC56A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746F3-E9D9-4ABA-84A2-0F5F2200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F6965-C8A5-41DB-A8BB-B5D8E9E5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A0234-A000-453C-BDA4-3196CDB5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3803D-EDA2-4E72-9352-EB378B08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FE911-95A4-4FA2-BA37-19ECB324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87FEA-53FE-4B1A-B941-10D2BC01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69D1-6B30-416D-9470-70192474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B83E7-B655-4D1E-95C4-894F0118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A4A3F-7568-42F3-9381-5A3E1887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86CBA-D0B6-4900-B37C-DF0F9E1D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72751-8C6A-4A93-B088-B596B16D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8C910-564F-4532-96AA-7EDD66470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FE64F-15BC-46CF-81C0-180E3254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C8C20-325E-4A95-BC5B-E1FA0503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1EE8D-F1E5-471D-B0EC-19A3733C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7980A-2EC0-4F54-A08E-B7928198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BE106-866E-4E96-866B-D671399E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DB85-B166-4C16-A002-B8B235E5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209DA-3D33-48D8-A63F-662E8804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F789C-01FD-44DB-AA30-2979E30C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BE4B8-1B64-4408-81A4-98AEEC91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35FE4-1F99-4D48-99FD-C8ACA9A5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8EF70-63AA-411E-840C-1F46552E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84A64-614D-47D4-BAA7-98D3F941C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C35CE-80DC-4F74-B23D-76CE51E55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0811C-FC72-42C3-B455-4244F665B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0CE4F-395A-4755-8D1C-A6BA9BF7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FA730-4469-4D7B-8C99-DAEF5696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1152-19E4-438F-B962-0DAD302403E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ED54-B470-45BA-87B3-E84427D04BD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C2BE-3151-4FCB-A236-82EA5EE0E37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EB22-EA72-4A8A-A84B-F760AA423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0439-1430-430B-8E38-951689D560B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561B-7C48-4DEC-8599-DDC6B9A8392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DEE1-8B96-420B-A6B7-41236C2029E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83A2-FFE4-4F5E-8BCF-81E2F453194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383D-2D7D-4CD0-9D57-8F4930B7EF7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B2E5-3475-4D95-9F38-BB9576BB64A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F861-351B-470E-97CD-8BC5E8177DB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4C05-89D3-4DE2-AAA1-B10B011F1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5A5D-A576-4DEF-8F0D-153E6F810A4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E12E-E000-4479-9E78-F10CC3BA2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A49B-DF40-4CA8-8C27-141A4939761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A509-33B0-4DB3-A2F2-C22690F32F7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5964-CA2A-4947-BE4F-C9F73FBE0FA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7C65-E5DA-40A4-B35D-095318A5C00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BE56-B3D7-4A1E-994B-BA07E752A71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BF82-862C-4946-BC48-6BEE98EF82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8B4E-7616-441E-B5B2-80EC022D36E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120A-FF5A-4617-ABBC-6600C16BC6A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1577-60E3-4E1D-82A8-7FA976AE277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85C4-F35E-4975-8E4F-7726061BF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02F9-FE22-44ED-8390-F979935F123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B3DBA-4981-4B5B-B140-BAAB4BC11CEE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20A39-CC22-46A0-BCC3-E386591F76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395C7662-840A-481E-ACC0-BC660E5573BE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73A27-43EC-4187-A76F-9CAD973DDF16}" type="slidenum">
              <a:t>3</a:t>
            </a:fld>
          </a:p>
        </p:txBody>
      </p:sp>
    </p:spTree>
  </p:cSld>
  <p:transition>
    <p:comb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341D9F-07CE-43F9-B480-3793D41FD0C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C1EF9DF2-1431-459D-A3FE-E19F5E9F5F68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D65FF-7E0E-48A2-BC0D-587BD5C987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F3596BA0-E642-47C0-8F92-9D44004BF67E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0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0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9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12764-4C37-470F-8991-65DE6F0ACE1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EC59C6F9-B14C-4788-9235-0593F069D4D8}" type="datetime1">
              <a:rPr lang="en-US"/>
              <a:t>07/31/26</a:t>
            </a:fld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