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7141-3825-4D45-BCC0-FDE797B9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0FE-CEC8-421D-8C27-D94EBEB5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BE4-6D5E-4823-8D8B-C5F1A8CF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A53-1409-43F5-BBF3-F0C12E9D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E61-9B3D-41B4-BD4A-3282A4A0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3EE-6D74-4C1C-A754-FA80CB1E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D91-0FD4-4A39-88E4-7A928928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F88-73A8-4633-826D-F4FE39D9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9E5-45C6-4AD8-B7DB-7FD2ABE2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89FB-1616-491C-9C83-79E6A8F1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79B-F65B-4EB6-971E-6231C730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407-C8D4-4B6B-8EA6-205A84AE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4494-25DE-4CE4-8123-B76D140317C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6.20100511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5-11T07:01:51Z</dcterms:modified>
  <cp:revision>96</cp:revision>
  <dc:subject/>
  <dc:title>投影片 1</dc:title>
</cp:coreProperties>
</file>