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E41BF-4D30-4078-B18B-54A35FD0E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31057-86C6-4DA9-9C36-01B6F5E7C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39FDC-602A-496C-949A-4495E6F77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C50C9-E9AA-4D9C-B73E-BDD445F24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298FE-E3E1-4DAD-A687-83BF54A79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3C507-42A0-4238-B60D-4C40BA012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B4BFC-99DB-4532-9A33-593017837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0BD31-B431-4E9E-A031-C4CA1FE31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442A1-BAF6-490A-ACCF-D0FA7DEB6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82926-C0C0-439F-BFAC-FCE139F7E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3BF09-B010-4D3D-A9C5-2DB671C0B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E3E28-2654-4E57-BE72-28CB55703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D8CCE-40A8-4AEB-A3F3-964A0FD5AD7F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uturnArrow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-Tur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066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99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124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Strip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899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Notch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lef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hev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rightArrowCallout">
            <a:avLst>
              <a:gd name="adj1" fmla="val 25002"/>
              <a:gd name="adj2" fmla="val 25000"/>
              <a:gd name="adj3" fmla="val 33335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eftArrowCallout">
            <a:avLst>
              <a:gd name="adj1" fmla="val 25002"/>
              <a:gd name="adj2" fmla="val 25000"/>
              <a:gd name="adj3" fmla="val 33335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upArrowCallout">
            <a:avLst>
              <a:gd name="adj1" fmla="val 50007"/>
              <a:gd name="adj2" fmla="val 50003"/>
              <a:gd name="adj3" fmla="val 16667"/>
              <a:gd name="adj4" fmla="val 666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downArrowCallout">
            <a:avLst>
              <a:gd name="adj1" fmla="val 50007"/>
              <a:gd name="adj2" fmla="val 50003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ircular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95280" y="620640"/>
            <a:ext cx="6264360" cy="2952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leftRightArrow">
            <a:avLst>
              <a:gd name="adj1" fmla="val 50000"/>
              <a:gd name="adj2" fmla="val 3981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0:52:08Z</dcterms:created>
  <dc:creator>tb121644</dc:creator>
  <dc:description/>
  <dc:language>en-US</dc:language>
  <cp:lastModifiedBy>tb121644</cp:lastModifiedBy>
  <dcterms:modified xsi:type="dcterms:W3CDTF">2005-05-25T10:52:24Z</dcterms:modified>
  <cp:revision>1</cp:revision>
  <dc:subject/>
  <dc:title>Slide 1</dc:title>
</cp:coreProperties>
</file>