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1972-4FD4-44F9-B0A8-40945532B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6CFB-2762-4493-927B-57482A2F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1D66-B7B4-48B0-BA3B-8525A5AE2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89F3-70CC-4FFF-B1FB-EB937763C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BA7E-3D4F-433A-8314-BC126DE2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90CD-137B-4468-9EA0-6706629C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4391-7686-4817-AD67-40EAC88E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9162-9C70-49AD-9136-A033AB73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C1DE-1C16-4240-80CF-A2D9A406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EC11-6E92-46A6-ABA1-7DACC4AD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56BB-DBAC-4238-B4FD-990CAACB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9F65-DBE3-44B2-9317-A344940C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A18D-D579-43F9-9BE3-967F1AC25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3040" y="2149200"/>
            <a:ext cx="6928560" cy="1028880"/>
          </a:xfrm>
          <a:prstGeom prst="bentConnector3">
            <a:avLst>
              <a:gd name="adj1" fmla="val 4644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 flipH="1" flipV="1" rot="10800000">
            <a:off x="4412880" y="3190680"/>
            <a:ext cx="3191760" cy="721440"/>
          </a:xfrm>
          <a:prstGeom prst="bentConnector3">
            <a:avLst>
              <a:gd name="adj1" fmla="val -43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3971520" y="1286640"/>
            <a:ext cx="3685320" cy="86292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6200" y="177948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44320" y="382572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42800" y="9428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95480" y="4351320"/>
            <a:ext cx="7361280" cy="1244520"/>
          </a:xfrm>
          <a:prstGeom prst="rightArrow">
            <a:avLst>
              <a:gd name="adj1" fmla="val 50000"/>
              <a:gd name="adj2" fmla="val 14787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50" idx="6"/>
            <a:endCxn id="52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7"/>
            <a:endCxn id="54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5" idx="6"/>
            <a:endCxn id="57" idx="6"/>
          </p:cNvCxnSpPr>
          <p:nvPr/>
        </p:nvCxnSpPr>
        <p:spPr>
          <a:xfrm flipH="1" rot="16200000">
            <a:off x="4221360" y="4073040"/>
            <a:ext cx="1033560" cy="843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59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ile"/>
          <p:cNvSpPr/>
          <p:nvPr/>
        </p:nvSpPr>
        <p:spPr>
          <a:xfrm>
            <a:off x="5159520" y="477828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60" idx="6"/>
            <a:endCxn id="55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0" idx="7"/>
            <a:endCxn id="50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4" idx="7"/>
            <a:endCxn id="65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4" idx="8"/>
            <a:endCxn id="64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4" idx="9"/>
            <a:endCxn id="63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2" idx="7"/>
            <a:endCxn id="71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52" idx="8"/>
            <a:endCxn id="70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2" idx="9"/>
            <a:endCxn id="69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5" idx="6"/>
            <a:endCxn id="77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5" idx="7"/>
            <a:endCxn id="79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80" idx="6"/>
            <a:endCxn id="82" idx="6"/>
          </p:cNvCxnSpPr>
          <p:nvPr/>
        </p:nvCxnSpPr>
        <p:spPr>
          <a:xfrm flipH="1" rot="16200000">
            <a:off x="3692160" y="4601160"/>
            <a:ext cx="205020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80" idx="7"/>
            <a:endCxn id="84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ile"/>
          <p:cNvSpPr/>
          <p:nvPr/>
        </p:nvSpPr>
        <p:spPr>
          <a:xfrm>
            <a:off x="5119560" y="579420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5" idx="6"/>
            <a:endCxn id="80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5" idx="7"/>
            <a:endCxn id="75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79" idx="7"/>
            <a:endCxn id="90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9" idx="8"/>
            <a:endCxn id="89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9" idx="9"/>
            <a:endCxn id="88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77" idx="7"/>
            <a:endCxn id="96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7" idx="8"/>
            <a:endCxn id="95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77" idx="9"/>
            <a:endCxn id="94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File"/>
          <p:cNvSpPr/>
          <p:nvPr/>
        </p:nvSpPr>
        <p:spPr>
          <a:xfrm>
            <a:off x="6512040" y="4780080"/>
            <a:ext cx="873000" cy="519120"/>
          </a:xfrm>
          <a:prstGeom prst="pi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8680320" y="4654440"/>
            <a:ext cx="19080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Document"/>
          <p:cNvSpPr/>
          <p:nvPr/>
        </p:nvSpPr>
        <p:spPr>
          <a:xfrm>
            <a:off x="8685360" y="5024520"/>
            <a:ext cx="19044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Document"/>
          <p:cNvSpPr/>
          <p:nvPr/>
        </p:nvSpPr>
        <p:spPr>
          <a:xfrm>
            <a:off x="8691480" y="5391000"/>
            <a:ext cx="190440" cy="25416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0" idx="6"/>
            <a:endCxn id="103" idx="8"/>
          </p:cNvCxnSpPr>
          <p:nvPr/>
        </p:nvCxnSpPr>
        <p:spPr>
          <a:xfrm>
            <a:off x="7384680" y="5040000"/>
            <a:ext cx="1307160" cy="478440"/>
          </a:xfrm>
          <a:prstGeom prst="bentConnector3">
            <a:avLst>
              <a:gd name="adj1" fmla="val 49917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5" name=""/>
          <p:cNvCxnSpPr>
            <a:stCxn id="100" idx="7"/>
            <a:endCxn id="102" idx="8"/>
          </p:cNvCxnSpPr>
          <p:nvPr/>
        </p:nvCxnSpPr>
        <p:spPr>
          <a:xfrm>
            <a:off x="7385040" y="5040000"/>
            <a:ext cx="1301040" cy="113400"/>
          </a:xfrm>
          <a:prstGeom prst="bentConnector3">
            <a:avLst>
              <a:gd name="adj1" fmla="val 49930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6" name=""/>
          <p:cNvCxnSpPr>
            <a:stCxn id="100" idx="8"/>
            <a:endCxn id="101" idx="8"/>
          </p:cNvCxnSpPr>
          <p:nvPr/>
        </p:nvCxnSpPr>
        <p:spPr>
          <a:xfrm flipV="1">
            <a:off x="7385040" y="4782240"/>
            <a:ext cx="1296000" cy="258120"/>
          </a:xfrm>
          <a:prstGeom prst="bentConnector3">
            <a:avLst>
              <a:gd name="adj1" fmla="val 49986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7" name=""/>
          <p:cNvCxnSpPr>
            <a:stCxn id="84" idx="7"/>
            <a:endCxn id="100" idx="9"/>
          </p:cNvCxnSpPr>
          <p:nvPr/>
        </p:nvCxnSpPr>
        <p:spPr>
          <a:xfrm flipH="1" rot="16200000">
            <a:off x="5801400" y="4329360"/>
            <a:ext cx="437400" cy="98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 rot="5400000">
            <a:off x="5204880" y="3021120"/>
            <a:ext cx="2535480" cy="811080"/>
          </a:xfrm>
          <a:custGeom>
            <a:avLst/>
            <a:gdLst>
              <a:gd name="textAreaLeft" fmla="*/ 0 w 2535480"/>
              <a:gd name="textAreaRight" fmla="*/ 2535840 w 253548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86" stAng="10800000" swAng="5400000"/>
                <a:lnTo>
                  <a:pt x="17477" y="2874"/>
                </a:lnTo>
                <a:lnTo>
                  <a:pt x="17477" y="0"/>
                </a:lnTo>
                <a:lnTo>
                  <a:pt x="21600" y="6079"/>
                </a:lnTo>
                <a:lnTo>
                  <a:pt x="17477" y="12158"/>
                </a:lnTo>
                <a:lnTo>
                  <a:pt x="17477" y="9284"/>
                </a:lnTo>
                <a:lnTo>
                  <a:pt x="12427" y="9284"/>
                </a:lnTo>
                <a:arcTo wR="6017" hR="2876" stAng="16200000" swAng="-5400000"/>
                <a:lnTo>
                  <a:pt x="6410" y="2160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95480" y="3798720"/>
            <a:ext cx="7361280" cy="1244880"/>
          </a:xfrm>
          <a:prstGeom prst="rightArrow">
            <a:avLst>
              <a:gd name="adj1" fmla="val 50000"/>
              <a:gd name="adj2" fmla="val 14783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6640" y="2792520"/>
            <a:ext cx="719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38120" y="1917720"/>
            <a:ext cx="1030320" cy="528480"/>
          </a:xfrm>
          <a:prstGeom prst="wedgeRectCallout">
            <a:avLst>
              <a:gd name="adj1" fmla="val -73111"/>
              <a:gd name="adj2" fmla="val 11636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2920" y="1889280"/>
            <a:ext cx="1030320" cy="528480"/>
          </a:xfrm>
          <a:prstGeom prst="wedgeRectCallout">
            <a:avLst>
              <a:gd name="adj1" fmla="val -92990"/>
              <a:gd name="adj2" fmla="val 12147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1" idx="4"/>
          </p:cNvCxnSpPr>
          <p:nvPr/>
        </p:nvCxnSpPr>
        <p:spPr>
          <a:xfrm flipH="1" flipV="1" rot="5400000">
            <a:off x="4209840" y="-1308600"/>
            <a:ext cx="996120" cy="7215840"/>
          </a:xfrm>
          <a:prstGeom prst="bentConnector4">
            <a:avLst>
              <a:gd name="adj1" fmla="val -144"/>
              <a:gd name="adj2" fmla="val 5436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14" name=""/>
          <p:cNvSpPr/>
          <p:nvPr/>
        </p:nvSpPr>
        <p:spPr>
          <a:xfrm>
            <a:off x="5027760" y="806400"/>
            <a:ext cx="1030320" cy="528840"/>
          </a:xfrm>
          <a:prstGeom prst="wedgeRectCallout">
            <a:avLst>
              <a:gd name="adj1" fmla="val -49074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p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88040" y="1976400"/>
            <a:ext cx="1030320" cy="528840"/>
          </a:xfrm>
          <a:prstGeom prst="wedgeRectCallout">
            <a:avLst>
              <a:gd name="adj1" fmla="val -48152"/>
              <a:gd name="adj2" fmla="val 10435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4040" y="816120"/>
            <a:ext cx="1030320" cy="528480"/>
          </a:xfrm>
          <a:prstGeom prst="wedgeRectCallout">
            <a:avLst>
              <a:gd name="adj1" fmla="val -73111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74800" y="27846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32200" y="28353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4840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0248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72400" y="28209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7:32Z</dcterms:modified>
  <cp:revision>39</cp:revision>
  <dc:subject/>
  <dc:title>PowerPoint Presentation</dc:title>
</cp:coreProperties>
</file>