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E37DA-143D-4D9E-90AD-FE4E0B327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CE6E-637F-4727-8FD5-20EF7359C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D591-757C-4BFC-B76B-9D944A1AC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0AD0-32C3-454C-A91F-DC7AEF038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F0DC-3902-4AB7-A73D-FF2FBE63D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6D1B-297E-43A8-8145-E8C3B2CB4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434B-4D45-4F1B-A721-2A648D2C5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CD74-0DBF-4BEB-A72B-F17BE8FC0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2494-1CA8-4FFB-ADC5-EE120978B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BD30-27A7-48FB-B181-567965B08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A0D0-ED05-4B75-9961-7C7F7AE5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9EBF-F371-4D63-B660-08ABFB9F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5EDB-192B-409B-9512-64A954B9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51F97-02B2-4BEC-9C3E-CBBAB8B9FF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376360" y="147168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41640" y="14716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43600" y="2919240"/>
            <a:ext cx="741240" cy="89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52040" y="3056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74520" y="326880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37479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74880" y="3733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2600" y="3733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54440" y="2944800"/>
            <a:ext cx="47880" cy="843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j0150663" descr=""/>
          <p:cNvPicPr/>
          <p:nvPr/>
        </p:nvPicPr>
        <p:blipFill>
          <a:blip r:embed="rId1"/>
          <a:stretch/>
        </p:blipFill>
        <p:spPr>
          <a:xfrm>
            <a:off x="4413240" y="2139840"/>
            <a:ext cx="422280" cy="473040"/>
          </a:xfrm>
          <a:prstGeom prst="rect">
            <a:avLst/>
          </a:prstGeom>
          <a:ln w="0">
            <a:noFill/>
          </a:ln>
        </p:spPr>
      </p:pic>
      <p:pic>
        <p:nvPicPr>
          <p:cNvPr id="63" name="j0150663" descr=""/>
          <p:cNvPicPr/>
          <p:nvPr/>
        </p:nvPicPr>
        <p:blipFill>
          <a:blip r:embed="rId2"/>
          <a:stretch/>
        </p:blipFill>
        <p:spPr>
          <a:xfrm>
            <a:off x="6014880" y="4062240"/>
            <a:ext cx="422280" cy="473400"/>
          </a:xfrm>
          <a:prstGeom prst="rect">
            <a:avLst/>
          </a:prstGeom>
          <a:ln w="0">
            <a:noFill/>
          </a:ln>
        </p:spPr>
      </p:pic>
      <p:pic>
        <p:nvPicPr>
          <p:cNvPr id="64" name="j0150663" descr=""/>
          <p:cNvPicPr/>
          <p:nvPr/>
        </p:nvPicPr>
        <p:blipFill>
          <a:blip r:embed="rId3"/>
          <a:stretch/>
        </p:blipFill>
        <p:spPr>
          <a:xfrm>
            <a:off x="4599000" y="4083120"/>
            <a:ext cx="422280" cy="473040"/>
          </a:xfrm>
          <a:prstGeom prst="rect">
            <a:avLst/>
          </a:prstGeom>
          <a:ln w="0">
            <a:noFill/>
          </a:ln>
        </p:spPr>
      </p:pic>
      <p:pic>
        <p:nvPicPr>
          <p:cNvPr id="65" name="j0150663" descr=""/>
          <p:cNvPicPr/>
          <p:nvPr/>
        </p:nvPicPr>
        <p:blipFill>
          <a:blip r:embed="rId4"/>
          <a:stretch/>
        </p:blipFill>
        <p:spPr>
          <a:xfrm>
            <a:off x="2913120" y="4068720"/>
            <a:ext cx="422280" cy="473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V="1">
            <a:off x="3527280" y="2933280"/>
            <a:ext cx="628920" cy="94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26640" y="6342120"/>
            <a:ext cx="263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1280" y="6330960"/>
            <a:ext cx="366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ne accidentally overwrites Joe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06056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3440" y="2936880"/>
            <a:ext cx="376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16240" y="2949480"/>
            <a:ext cx="355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Joe edits, Jane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6360" y="6351480"/>
            <a:ext cx="381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38680" y="6354720"/>
            <a:ext cx="439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Jane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 flipV="1">
            <a:off x="134316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 flipV="1">
            <a:off x="1071720" y="1409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7208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27360" y="6342120"/>
            <a:ext cx="27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ne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66240" y="6330960"/>
            <a:ext cx="27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  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68360" y="2960640"/>
            <a:ext cx="365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40" idx="6"/>
            <a:endCxn id="239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"/>
          <p:cNvCxnSpPr>
            <a:stCxn id="240" idx="7"/>
            <a:endCxn id="238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3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38" idx="7"/>
            <a:endCxn id="245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" name=""/>
          <p:cNvCxnSpPr>
            <a:stCxn id="238" idx="8"/>
            <a:endCxn id="244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1" name=""/>
          <p:cNvCxnSpPr>
            <a:stCxn id="238" idx="9"/>
            <a:endCxn id="243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2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8" name=""/>
          <p:cNvCxnSpPr>
            <a:endCxn id="254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9" name=""/>
          <p:cNvCxnSpPr>
            <a:endCxn id="253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0" name=""/>
          <p:cNvCxnSpPr>
            <a:endCxn id="252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"/>
          <p:cNvGrpSpPr/>
          <p:nvPr/>
        </p:nvGrpSpPr>
        <p:grpSpPr>
          <a:xfrm>
            <a:off x="4100400" y="2890800"/>
            <a:ext cx="561600" cy="1084320"/>
            <a:chOff x="4100400" y="2890800"/>
            <a:chExt cx="561600" cy="1084320"/>
          </a:xfrm>
        </p:grpSpPr>
        <p:sp>
          <p:nvSpPr>
            <p:cNvPr id="262" name="File"/>
            <p:cNvSpPr/>
            <p:nvPr/>
          </p:nvSpPr>
          <p:spPr>
            <a:xfrm>
              <a:off x="4100400" y="2890800"/>
              <a:ext cx="198360" cy="1144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File"/>
            <p:cNvSpPr/>
            <p:nvPr/>
          </p:nvSpPr>
          <p:spPr>
            <a:xfrm>
              <a:off x="4322520" y="3032280"/>
              <a:ext cx="19656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File"/>
            <p:cNvSpPr/>
            <p:nvPr/>
          </p:nvSpPr>
          <p:spPr>
            <a:xfrm>
              <a:off x="4323960" y="369900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62" idx="6"/>
              <a:endCxn id="264" idx="6"/>
            </p:cNvCxnSpPr>
            <p:nvPr/>
          </p:nvCxnSpPr>
          <p:spPr>
            <a:xfrm flipH="1" rot="16200000">
              <a:off x="3884760" y="3317760"/>
              <a:ext cx="751320" cy="125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62" idx="7"/>
              <a:endCxn id="263" idx="6"/>
            </p:cNvCxnSpPr>
            <p:nvPr/>
          </p:nvCxnSpPr>
          <p:spPr>
            <a:xfrm flipH="1" rot="16200000">
              <a:off x="4217400" y="2985120"/>
              <a:ext cx="84600" cy="124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7" name="Document"/>
            <p:cNvSpPr/>
            <p:nvPr/>
          </p:nvSpPr>
          <p:spPr>
            <a:xfrm>
              <a:off x="4555800" y="3164040"/>
              <a:ext cx="99720" cy="13464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Document"/>
            <p:cNvSpPr/>
            <p:nvPr/>
          </p:nvSpPr>
          <p:spPr>
            <a:xfrm>
              <a:off x="4559040" y="3359160"/>
              <a:ext cx="99720" cy="1332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Document"/>
            <p:cNvSpPr/>
            <p:nvPr/>
          </p:nvSpPr>
          <p:spPr>
            <a:xfrm>
              <a:off x="4562280" y="3551400"/>
              <a:ext cx="99720" cy="13464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0" name=""/>
            <p:cNvCxnSpPr>
              <a:stCxn id="263" idx="7"/>
              <a:endCxn id="269" idx="8"/>
            </p:cNvCxnSpPr>
            <p:nvPr/>
          </p:nvCxnSpPr>
          <p:spPr>
            <a:xfrm flipH="1" rot="16200000">
              <a:off x="4255560" y="3311280"/>
              <a:ext cx="472320" cy="141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63" idx="8"/>
              <a:endCxn id="268" idx="8"/>
            </p:cNvCxnSpPr>
            <p:nvPr/>
          </p:nvCxnSpPr>
          <p:spPr>
            <a:xfrm flipH="1" rot="16200000">
              <a:off x="4349160" y="3216960"/>
              <a:ext cx="280080" cy="138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2" name=""/>
            <p:cNvCxnSpPr>
              <a:stCxn id="263" idx="9"/>
              <a:endCxn id="267" idx="8"/>
            </p:cNvCxnSpPr>
            <p:nvPr/>
          </p:nvCxnSpPr>
          <p:spPr>
            <a:xfrm flipH="1" rot="16200000">
              <a:off x="4445280" y="3121560"/>
              <a:ext cx="86400" cy="1353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3" name="Document"/>
            <p:cNvSpPr/>
            <p:nvPr/>
          </p:nvSpPr>
          <p:spPr>
            <a:xfrm>
              <a:off x="4554360" y="3841920"/>
              <a:ext cx="101160" cy="1332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endCxn id="273" idx="8"/>
            </p:cNvCxnSpPr>
            <p:nvPr/>
          </p:nvCxnSpPr>
          <p:spPr>
            <a:xfrm flipH="1" rot="16200000">
              <a:off x="4442040" y="3797280"/>
              <a:ext cx="86400" cy="137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5" name=""/>
          <p:cNvGrpSpPr/>
          <p:nvPr/>
        </p:nvGrpSpPr>
        <p:grpSpPr>
          <a:xfrm>
            <a:off x="4846680" y="2900520"/>
            <a:ext cx="561960" cy="1471320"/>
            <a:chOff x="4846680" y="2900520"/>
            <a:chExt cx="561960" cy="1471320"/>
          </a:xfrm>
        </p:grpSpPr>
        <p:sp>
          <p:nvSpPr>
            <p:cNvPr id="276" name="File"/>
            <p:cNvSpPr/>
            <p:nvPr/>
          </p:nvSpPr>
          <p:spPr>
            <a:xfrm>
              <a:off x="4846680" y="290052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File"/>
            <p:cNvSpPr/>
            <p:nvPr/>
          </p:nvSpPr>
          <p:spPr>
            <a:xfrm>
              <a:off x="5068080" y="304128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ile"/>
            <p:cNvSpPr/>
            <p:nvPr/>
          </p:nvSpPr>
          <p:spPr>
            <a:xfrm>
              <a:off x="5070600" y="370800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6" idx="6"/>
              <a:endCxn id="278" idx="6"/>
            </p:cNvCxnSpPr>
            <p:nvPr/>
          </p:nvCxnSpPr>
          <p:spPr>
            <a:xfrm flipH="1" rot="16200000">
              <a:off x="4632840" y="3327120"/>
              <a:ext cx="750960" cy="125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6" idx="7"/>
              <a:endCxn id="277" idx="6"/>
            </p:cNvCxnSpPr>
            <p:nvPr/>
          </p:nvCxnSpPr>
          <p:spPr>
            <a:xfrm flipH="1" rot="16200000">
              <a:off x="4964760" y="2994840"/>
              <a:ext cx="84600" cy="1231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1" name="Document"/>
            <p:cNvSpPr/>
            <p:nvPr/>
          </p:nvSpPr>
          <p:spPr>
            <a:xfrm>
              <a:off x="5302440" y="317412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Document"/>
            <p:cNvSpPr/>
            <p:nvPr/>
          </p:nvSpPr>
          <p:spPr>
            <a:xfrm>
              <a:off x="5304960" y="336888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5308560" y="356112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4" name=""/>
            <p:cNvCxnSpPr>
              <a:stCxn id="277" idx="7"/>
              <a:endCxn id="283" idx="8"/>
            </p:cNvCxnSpPr>
            <p:nvPr/>
          </p:nvCxnSpPr>
          <p:spPr>
            <a:xfrm flipH="1" rot="16200000">
              <a:off x="5000760" y="3320640"/>
              <a:ext cx="473400" cy="142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5" name=""/>
            <p:cNvCxnSpPr>
              <a:stCxn id="277" idx="8"/>
              <a:endCxn id="282" idx="8"/>
            </p:cNvCxnSpPr>
            <p:nvPr/>
          </p:nvCxnSpPr>
          <p:spPr>
            <a:xfrm flipH="1" rot="16200000">
              <a:off x="5095440" y="3226320"/>
              <a:ext cx="280800" cy="138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stCxn id="277" idx="9"/>
              <a:endCxn id="281" idx="8"/>
            </p:cNvCxnSpPr>
            <p:nvPr/>
          </p:nvCxnSpPr>
          <p:spPr>
            <a:xfrm flipH="1" rot="16200000">
              <a:off x="5192280" y="3130200"/>
              <a:ext cx="86400" cy="136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7" name="Document"/>
            <p:cNvSpPr/>
            <p:nvPr/>
          </p:nvSpPr>
          <p:spPr>
            <a:xfrm>
              <a:off x="5301360" y="385128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Document"/>
            <p:cNvSpPr/>
            <p:nvPr/>
          </p:nvSpPr>
          <p:spPr>
            <a:xfrm>
              <a:off x="5303880" y="404568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Document"/>
            <p:cNvSpPr/>
            <p:nvPr/>
          </p:nvSpPr>
          <p:spPr>
            <a:xfrm>
              <a:off x="5307120" y="423792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0" name=""/>
            <p:cNvCxnSpPr>
              <a:endCxn id="289" idx="8"/>
            </p:cNvCxnSpPr>
            <p:nvPr/>
          </p:nvCxnSpPr>
          <p:spPr>
            <a:xfrm flipH="1" rot="16200000">
              <a:off x="4999320" y="3997800"/>
              <a:ext cx="473400" cy="142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1" name=""/>
            <p:cNvCxnSpPr>
              <a:endCxn id="288" idx="8"/>
            </p:cNvCxnSpPr>
            <p:nvPr/>
          </p:nvCxnSpPr>
          <p:spPr>
            <a:xfrm flipH="1" rot="16200000">
              <a:off x="5094000" y="3903480"/>
              <a:ext cx="280800" cy="138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endCxn id="287" idx="8"/>
            </p:cNvCxnSpPr>
            <p:nvPr/>
          </p:nvCxnSpPr>
          <p:spPr>
            <a:xfrm flipH="1" rot="16200000">
              <a:off x="5190840" y="3807360"/>
              <a:ext cx="86400" cy="136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93" name=""/>
          <p:cNvGrpSpPr/>
          <p:nvPr/>
        </p:nvGrpSpPr>
        <p:grpSpPr>
          <a:xfrm>
            <a:off x="3408480" y="2889360"/>
            <a:ext cx="561960" cy="795240"/>
            <a:chOff x="3408480" y="2889360"/>
            <a:chExt cx="561960" cy="795240"/>
          </a:xfrm>
        </p:grpSpPr>
        <p:sp>
          <p:nvSpPr>
            <p:cNvPr id="294" name="File"/>
            <p:cNvSpPr/>
            <p:nvPr/>
          </p:nvSpPr>
          <p:spPr>
            <a:xfrm>
              <a:off x="3408480" y="2889360"/>
              <a:ext cx="19836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File"/>
            <p:cNvSpPr/>
            <p:nvPr/>
          </p:nvSpPr>
          <p:spPr>
            <a:xfrm>
              <a:off x="3630960" y="3030480"/>
              <a:ext cx="196560" cy="1144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6" name=""/>
            <p:cNvCxnSpPr>
              <a:stCxn id="294" idx="6"/>
              <a:endCxn id="295" idx="6"/>
            </p:cNvCxnSpPr>
            <p:nvPr/>
          </p:nvCxnSpPr>
          <p:spPr>
            <a:xfrm flipH="1" rot="16200000">
              <a:off x="3526920" y="2983320"/>
              <a:ext cx="84960" cy="1245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7" name="Document"/>
            <p:cNvSpPr/>
            <p:nvPr/>
          </p:nvSpPr>
          <p:spPr>
            <a:xfrm>
              <a:off x="3864240" y="3162240"/>
              <a:ext cx="100080" cy="1350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Document"/>
            <p:cNvSpPr/>
            <p:nvPr/>
          </p:nvSpPr>
          <p:spPr>
            <a:xfrm>
              <a:off x="3867480" y="3357720"/>
              <a:ext cx="99720" cy="1332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Document"/>
            <p:cNvSpPr/>
            <p:nvPr/>
          </p:nvSpPr>
          <p:spPr>
            <a:xfrm>
              <a:off x="3870360" y="3549600"/>
              <a:ext cx="100080" cy="1350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0" name=""/>
            <p:cNvCxnSpPr>
              <a:stCxn id="295" idx="7"/>
              <a:endCxn id="299" idx="8"/>
            </p:cNvCxnSpPr>
            <p:nvPr/>
          </p:nvCxnSpPr>
          <p:spPr>
            <a:xfrm flipH="1" rot="16200000">
              <a:off x="3564000" y="3309480"/>
              <a:ext cx="471960" cy="141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1" name=""/>
            <p:cNvCxnSpPr>
              <a:stCxn id="295" idx="8"/>
              <a:endCxn id="298" idx="8"/>
            </p:cNvCxnSpPr>
            <p:nvPr/>
          </p:nvCxnSpPr>
          <p:spPr>
            <a:xfrm flipH="1" rot="16200000">
              <a:off x="3658680" y="3215160"/>
              <a:ext cx="280080" cy="138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2" name=""/>
            <p:cNvCxnSpPr>
              <a:stCxn id="295" idx="9"/>
              <a:endCxn id="297" idx="8"/>
            </p:cNvCxnSpPr>
            <p:nvPr/>
          </p:nvCxnSpPr>
          <p:spPr>
            <a:xfrm flipH="1" rot="16200000">
              <a:off x="3753000" y="3120120"/>
              <a:ext cx="86400" cy="1357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03" name="File"/>
          <p:cNvSpPr/>
          <p:nvPr/>
        </p:nvSpPr>
        <p:spPr>
          <a:xfrm>
            <a:off x="2827440" y="2889360"/>
            <a:ext cx="198360" cy="1141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736720" y="2457360"/>
            <a:ext cx="3326040" cy="339840"/>
          </a:xfrm>
          <a:prstGeom prst="rightArrow">
            <a:avLst>
              <a:gd name="adj1" fmla="val 50000"/>
              <a:gd name="adj2" fmla="val 24467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806560" y="251460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378240" y="251460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64040" y="252108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819680" y="252108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ollins-Sussman</cp:lastModifiedBy>
  <dcterms:modified xsi:type="dcterms:W3CDTF">2002-12-08T23:52:39Z</dcterms:modified>
  <cp:revision>28</cp:revision>
  <dc:subject/>
  <dc:title>PowerPoint Presentation</dc:title>
</cp:coreProperties>
</file>